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3DC-8197-4223-8AAE-58C42162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EC9-523F-41DF-B710-754A97E1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746-F655-4B74-84A0-ED365BE2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599-E3DC-4FEE-8ECD-1726EB50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DDF-F156-4AEF-A04C-35D4FB2C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C92-6DDE-475A-A2B1-B35C4E7B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11E-46B4-47DA-A41F-6D665532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366-B6F2-4A4F-A4FC-CA7281AE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2D8-0779-4AEC-B34E-9EF8089C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35A-9B62-4754-9294-0CF1D6A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B22-DB97-4B4F-869A-95CAE3A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6E3-ECE9-4937-92F1-369513F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9EB0-D608-4704-919F-C25C1385F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429000" cy="9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غنّوا يـا أبنـاءَ اللهِ</a:t>
            </a:r>
            <a:r>
              <a:rPr b="1" lang="en-US" sz="42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42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يسـوع المسيح قـا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لبَ الموتَ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لكُ الكون زال سلطانُ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ظلا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بنُ اللـهِ رب الحيـاةِ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حيٌّ الى دهرِ الدهـــو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ن النـورِ الذي لا يغرُب تعالَوا وخذوا النو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738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50532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امَ الربُ وطىءَ الموتَ إِفرحــي أورشليـم       كلُّ شيءٍ صار جديداً قدّ تبدَل القديم            اللهً حيٌّ بين شعبهِ جعل مسكنه معهم لا أحزان لا أوجاعَ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دموع بعـد اليو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892840" cy="739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04920"/>
            <a:ext cx="4038480" cy="9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عدُ اللـه قد تحقق تم قول الأنبيـاء   كنّا من قبل أمواتاً فصِرنا الآن أحياء قمنا مَعَهُ سنملك معهُ ليس لملكِه انقض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هُ سنحيا الى الابد </a:t>
            </a: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لن يطالنـــا  الفنـ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7543800" cy="739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886200" cy="11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شعب الله إرفع رأسك إنّ إلهك عظيم             أين شوكتك يا موتُ وغلبتك يا جحيم موتُ الربِ صار حياةً أضحى نصرُنا  أكيد هيّا نفرَح ونهلّـل </a:t>
            </a:r>
            <a:r>
              <a:rPr b="1" lang="ar-SA" sz="42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أهلَ الملكوت الجديــد</a:t>
            </a:r>
            <a:r>
              <a:rPr b="0" lang="ar-SA" sz="42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0:11:46Z</dcterms:created>
  <dc:creator>SUZANNE.MD</dc:creator>
  <dc:description/>
  <dc:language>en-US</dc:language>
  <cp:lastModifiedBy>HANI SAFI</cp:lastModifiedBy>
  <dcterms:modified xsi:type="dcterms:W3CDTF">2003-04-16T13:55:35Z</dcterms:modified>
  <cp:revision>2</cp:revision>
  <dc:subject/>
  <dc:title>PowerPoint Presentation</dc:title>
</cp:coreProperties>
</file>